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F23-21CA-4597-AF25-6EC13422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013-D5DF-4F35-80BC-3AFF959B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810-1AA6-4FDA-93BD-F74329E5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58A-6FFD-4CCC-A692-59D2F8C7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632-6677-4E8C-A818-4C5979B5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75F-B578-4BF0-A838-1AAB35EA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344-9967-43F1-A014-5BE796FD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65A-A0C2-4148-9939-3DA8C39E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0C8-D002-4F01-A8D8-C8CA4D77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678-1771-4361-B924-794CC865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857-8324-48AD-B3EC-7A698E3C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F57-E1C1-4EDC-AC4E-B514D187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C6EA-C590-4695-854C-D4C7CC62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8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8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83664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04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ОУ «Ромодановская средняя общеобразовательная школа №1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2637000"/>
            <a:ext cx="6192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333399"/>
                    </a:gs>
                  </a:gsLst>
                  <a:lin ang="13500000"/>
                </a:gradFill>
                <a:latin typeface="Times New Roman"/>
              </a:rPr>
              <a:t>Вопросительные слов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333399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11280" y="1341360"/>
            <a:ext cx="4148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гра-тренажёр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5040" y="4365720"/>
            <a:ext cx="38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рабо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орю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4520" y="58770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омоданово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4040" y="335448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УМК З.Н.Никитен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Список использованной литературы.</a:t>
            </a:r>
            <a:br>
              <a:rPr sz="3600"/>
            </a:b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Ссылки на Интернет - источ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ебно-методический комплект Английский язык для 2 класса общеобразоват. учрежд./З.Н.Никитенко.- М.: Просвещение, 2009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gif1000.narod.ru/Gif_animacija_priroda1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if1000.narod.ru/Gif_animacija_razno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43640" y="2060640"/>
            <a:ext cx="2017800" cy="65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>
            <a:alphaModFix amt="96000"/>
          </a:blip>
          <a:stretch/>
        </p:blipFill>
        <p:spPr>
          <a:xfrm>
            <a:off x="4140360" y="4724280"/>
            <a:ext cx="1800000" cy="9288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2556000" y="465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3995640" y="4653000"/>
            <a:ext cx="2881440" cy="696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2771640" y="4653000"/>
            <a:ext cx="720720" cy="682560"/>
          </a:xfrm>
          <a:custGeom>
            <a:avLst/>
            <a:gdLst>
              <a:gd name="textAreaLeft" fmla="*/ 43920 w 720720"/>
              <a:gd name="textAreaRight" fmla="*/ 676800 w 72072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2807" h="21600">
                <a:moveTo>
                  <a:pt x="0" y="0"/>
                </a:moveTo>
                <a:lnTo>
                  <a:pt x="22807" y="0"/>
                </a:lnTo>
                <a:lnTo>
                  <a:pt x="22807" y="21600"/>
                </a:lnTo>
                <a:lnTo>
                  <a:pt x="0" y="21600"/>
                </a:lnTo>
                <a:close/>
              </a:path>
              <a:path fill="lightenLess" w="22807" h="21600">
                <a:moveTo>
                  <a:pt x="0" y="0"/>
                </a:moveTo>
                <a:lnTo>
                  <a:pt x="22807" y="0"/>
                </a:lnTo>
                <a:lnTo>
                  <a:pt x="21407" y="1400"/>
                </a:lnTo>
                <a:lnTo>
                  <a:pt x="1400" y="1400"/>
                </a:lnTo>
                <a:close/>
              </a:path>
              <a:path fill="darken" w="22807" h="21600">
                <a:moveTo>
                  <a:pt x="22807" y="0"/>
                </a:moveTo>
                <a:lnTo>
                  <a:pt x="22807" y="21600"/>
                </a:lnTo>
                <a:lnTo>
                  <a:pt x="21407" y="20200"/>
                </a:lnTo>
                <a:lnTo>
                  <a:pt x="21407" y="1400"/>
                </a:lnTo>
                <a:close/>
              </a:path>
              <a:path fill="darkenLess" w="22807" h="21600">
                <a:moveTo>
                  <a:pt x="22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07" y="20200"/>
                </a:lnTo>
                <a:close/>
              </a:path>
              <a:path fill="lighten" w="22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07" h="21600">
                <a:moveTo>
                  <a:pt x="4397" y="3794"/>
                </a:moveTo>
                <a:lnTo>
                  <a:pt x="18410" y="10800"/>
                </a:lnTo>
                <a:lnTo>
                  <a:pt x="43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765000"/>
            <a:ext cx="2016000" cy="676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6920" y="836640"/>
            <a:ext cx="1872000" cy="692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4284720" y="4581360"/>
            <a:ext cx="1800000" cy="909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2916360" y="4653000"/>
            <a:ext cx="792000" cy="755640"/>
          </a:xfrm>
          <a:custGeom>
            <a:avLst/>
            <a:gdLst>
              <a:gd name="textAreaLeft" fmla="*/ 48960 w 792000"/>
              <a:gd name="textAreaRight" fmla="*/ 743040 w 792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2639" h="21600">
                <a:moveTo>
                  <a:pt x="0" y="0"/>
                </a:moveTo>
                <a:lnTo>
                  <a:pt x="22639" y="0"/>
                </a:lnTo>
                <a:lnTo>
                  <a:pt x="22639" y="21600"/>
                </a:lnTo>
                <a:lnTo>
                  <a:pt x="0" y="21600"/>
                </a:lnTo>
                <a:close/>
              </a:path>
              <a:path fill="lightenLess" w="22639" h="21600">
                <a:moveTo>
                  <a:pt x="0" y="0"/>
                </a:moveTo>
                <a:lnTo>
                  <a:pt x="22639" y="0"/>
                </a:lnTo>
                <a:lnTo>
                  <a:pt x="21239" y="1400"/>
                </a:lnTo>
                <a:lnTo>
                  <a:pt x="1400" y="1400"/>
                </a:lnTo>
                <a:close/>
              </a:path>
              <a:path fill="darken" w="22639" h="21600">
                <a:moveTo>
                  <a:pt x="22639" y="0"/>
                </a:moveTo>
                <a:lnTo>
                  <a:pt x="22639" y="21600"/>
                </a:lnTo>
                <a:lnTo>
                  <a:pt x="21239" y="20200"/>
                </a:lnTo>
                <a:lnTo>
                  <a:pt x="21239" y="1400"/>
                </a:lnTo>
                <a:close/>
              </a:path>
              <a:path fill="darkenLess" w="22639" h="21600">
                <a:moveTo>
                  <a:pt x="2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9" y="20200"/>
                </a:lnTo>
                <a:close/>
              </a:path>
              <a:path fill="lighten" w="2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9" h="21600">
                <a:moveTo>
                  <a:pt x="4313" y="3794"/>
                </a:moveTo>
                <a:lnTo>
                  <a:pt x="18326" y="10800"/>
                </a:lnTo>
                <a:lnTo>
                  <a:pt x="43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3995640" y="4941720"/>
            <a:ext cx="2880000" cy="777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2627280" y="4869000"/>
            <a:ext cx="863640" cy="753840"/>
          </a:xfrm>
          <a:custGeom>
            <a:avLst/>
            <a:gdLst>
              <a:gd name="textAreaLeft" fmla="*/ 48600 w 863640"/>
              <a:gd name="textAreaRight" fmla="*/ 815040 w 8636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3794"/>
                </a:moveTo>
                <a:lnTo>
                  <a:pt x="19379" y="10800"/>
                </a:lnTo>
                <a:lnTo>
                  <a:pt x="53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4140360" y="4869000"/>
            <a:ext cx="1800000" cy="73008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2627280" y="4797360"/>
            <a:ext cx="863640" cy="827280"/>
          </a:xfrm>
          <a:custGeom>
            <a:avLst/>
            <a:gdLst>
              <a:gd name="textAreaLeft" fmla="*/ 53640 w 863640"/>
              <a:gd name="textAreaRight" fmla="*/ 810000 w 86364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2549" h="21600">
                <a:moveTo>
                  <a:pt x="0" y="0"/>
                </a:moveTo>
                <a:lnTo>
                  <a:pt x="22549" y="0"/>
                </a:lnTo>
                <a:lnTo>
                  <a:pt x="22549" y="21600"/>
                </a:lnTo>
                <a:lnTo>
                  <a:pt x="0" y="21600"/>
                </a:lnTo>
                <a:close/>
              </a:path>
              <a:path fill="lightenLess" w="22549" h="21600">
                <a:moveTo>
                  <a:pt x="0" y="0"/>
                </a:moveTo>
                <a:lnTo>
                  <a:pt x="22549" y="0"/>
                </a:lnTo>
                <a:lnTo>
                  <a:pt x="21149" y="1400"/>
                </a:lnTo>
                <a:lnTo>
                  <a:pt x="1400" y="1400"/>
                </a:lnTo>
                <a:close/>
              </a:path>
              <a:path fill="darken" w="22549" h="21600">
                <a:moveTo>
                  <a:pt x="22549" y="0"/>
                </a:moveTo>
                <a:lnTo>
                  <a:pt x="22549" y="21600"/>
                </a:lnTo>
                <a:lnTo>
                  <a:pt x="21149" y="20200"/>
                </a:lnTo>
                <a:lnTo>
                  <a:pt x="21149" y="1400"/>
                </a:lnTo>
                <a:close/>
              </a:path>
              <a:path fill="darkenLess" w="22549" h="21600">
                <a:moveTo>
                  <a:pt x="2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9" y="20200"/>
                </a:lnTo>
                <a:close/>
              </a:path>
              <a:path fill="lighten" w="2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49" h="21600">
                <a:moveTo>
                  <a:pt x="4268" y="3794"/>
                </a:moveTo>
                <a:lnTo>
                  <a:pt x="18281" y="10800"/>
                </a:lnTo>
                <a:lnTo>
                  <a:pt x="42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067280" y="4508640"/>
            <a:ext cx="1800000" cy="9014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843280" y="4581360"/>
            <a:ext cx="792000" cy="82728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27280"/>
              <a:gd name="textAreaBottom" fmla="*/ 776160 h 827280"/>
            </a:gdLst>
            <a:ahLst/>
            <a:rect l="textAreaLeft" t="textAreaTop" r="textAreaRight" b="textAreaBottom"/>
            <a:pathLst>
              <a:path w="21600" h="22562">
                <a:moveTo>
                  <a:pt x="0" y="0"/>
                </a:moveTo>
                <a:lnTo>
                  <a:pt x="21600" y="0"/>
                </a:lnTo>
                <a:lnTo>
                  <a:pt x="21600" y="22562"/>
                </a:lnTo>
                <a:lnTo>
                  <a:pt x="0" y="22562"/>
                </a:lnTo>
                <a:close/>
              </a:path>
              <a:path fill="lightenLess" w="21600" h="225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62">
                <a:moveTo>
                  <a:pt x="21600" y="0"/>
                </a:moveTo>
                <a:lnTo>
                  <a:pt x="21600" y="22562"/>
                </a:lnTo>
                <a:lnTo>
                  <a:pt x="20200" y="21162"/>
                </a:lnTo>
                <a:lnTo>
                  <a:pt x="20200" y="1400"/>
                </a:lnTo>
                <a:close/>
              </a:path>
              <a:path fill="darkenLess" w="21600" h="22562">
                <a:moveTo>
                  <a:pt x="21600" y="22562"/>
                </a:moveTo>
                <a:lnTo>
                  <a:pt x="0" y="22562"/>
                </a:lnTo>
                <a:lnTo>
                  <a:pt x="1400" y="21162"/>
                </a:lnTo>
                <a:lnTo>
                  <a:pt x="20200" y="21162"/>
                </a:lnTo>
                <a:close/>
              </a:path>
              <a:path fill="lighten" w="21600" h="22562">
                <a:moveTo>
                  <a:pt x="0" y="225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62"/>
                </a:lnTo>
                <a:close/>
              </a:path>
              <a:path fill="darken" w="21600" h="22562">
                <a:moveTo>
                  <a:pt x="3794" y="4274"/>
                </a:moveTo>
                <a:lnTo>
                  <a:pt x="17806" y="11281"/>
                </a:lnTo>
                <a:lnTo>
                  <a:pt x="3794" y="182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406728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4036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41626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9:38:20Z</dcterms:created>
  <dc:creator>Школа</dc:creator>
  <dc:description/>
  <dc:language>en-US</dc:language>
  <cp:lastModifiedBy>Ирина</cp:lastModifiedBy>
  <dcterms:modified xsi:type="dcterms:W3CDTF">2011-04-20T15:41:42Z</dcterms:modified>
  <cp:revision>45</cp:revision>
  <dc:subject/>
  <dc:title>Слайд 1</dc:title>
</cp:coreProperties>
</file>